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7898-FF1B-4A10-B331-AE48F66D6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846D-3A2E-494A-BF98-2A80D1BA2C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24B8-09B8-49E0-8A52-6D02291205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FB58-051F-4E89-894C-625739C8F9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A533-B945-48E3-93D4-708E69C3C7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9520-C2EF-4A2B-9499-2AB0FD7F00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3AD2-9C71-4AAC-93EC-688EC0FECF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02A8-6127-4789-B4D7-1FA8844186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B29E-EFB7-472D-94F8-3474F52769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7C52-46D5-46CF-B2E1-943C71EAC0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5358-F634-4D3C-A323-217BAA9D52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4058-A88F-4A90-B838-9A5972C268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A362-E631-464A-B5C3-1EBA7498415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1E03-0585-4205-B50B-87ADEA871C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9942-B92B-4457-96C7-4DA7F9A38A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F1C1-8034-4024-81B3-D820B6186F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5702-AD2D-4631-A440-1B529359DE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E447-02DC-464D-839A-B693B869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EA5F-A786-4260-AD08-01CB08BF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598-8425-43A9-A682-BE6DC622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419-20AB-4D08-B5FF-AE052FE1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35A4C-869A-4B75-9763-B2B0CDD6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7F5D7-F7EA-4A5A-81DE-098FA095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9489D-4B37-4480-AAF9-5C123938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A2B2F-B92D-482D-ACDB-574D5356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35B78-7C17-47E1-8DBC-84ECA716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4738F-80F9-42F2-BDEA-1FF0459B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7A8AA-9B62-45B5-AF1B-B8D6A731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3CD-9113-40A0-B03D-3EA574F2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2845E-659B-4292-91E0-5B2194E4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F7EDD-E7C6-46CE-B673-6A3FBB9B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F11F4-4BB4-4CE2-A419-7D6AF6EA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DBAA3-4601-411E-BF54-56E44148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394D9-99AB-4F3A-B516-D12BA6EB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B61D8-C16B-44F3-A9BE-567263FF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FDE62-BDD3-490D-8EA2-852073EC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39890-A87B-4637-BA6E-34AF048E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F0BC8-11AC-452C-9202-98AE6E87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0ECD0-33C4-4AD8-A830-B523BDD1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388-ACE3-41BA-828D-B8A4F42F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3C859-573A-45D2-88E7-283A881F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D8A0C-BF76-44A8-A817-5E66C7F1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4FE02-E3B5-4362-B2FB-D12603AF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DD75F-31AB-4983-BCF9-AA24338D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82E50-189F-4924-8C6F-ABF8FFF9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81F63-5795-434B-B3C9-139C42AF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7972-2C82-4327-8F1D-92C8E4FC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E2DFFC-D12A-4CEC-8D4F-6EACACFB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310A3B-A61E-4B84-AA62-06B0D031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E58423-FB6A-47F5-9515-62FA19A7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415-8D3D-41E0-98A3-62639E2D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287BCB-E4B0-4A33-97C3-0AFC00D0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4688F3-93D5-450B-AEC3-369BFCC5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8D829-CAF3-410E-9C89-B355E619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2DDEAA-0ECB-4157-B0E2-8D8237A3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C89C2-2765-4BD6-B0DE-72036429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556E61-A30E-47F7-A984-BFDA7078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E152CB-EE45-4471-8D14-146B1EC4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3283FE-CC5D-4478-957B-43803792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4D19C-60EB-4414-BBC3-63E9E990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06B-937A-4639-A1DA-BF73B9D8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33A-948D-4589-B9EF-D43E38F7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11F-60C7-456A-A240-5556C9AD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8FF-80FB-4E27-9D12-1DE55590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109-51AB-44D8-B8F9-B54FF402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9B17-C8A8-434B-97B6-434216D115D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0B49-1655-4367-B978-8B1B321E90A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A450-0B52-4B34-82BF-78D19657CBA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91CC-0C6A-4C25-AE44-ED64E269D33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Introduction and Literary Terms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gendary blind bard (poet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ived between 1000 B.C. and 700 B.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om western Asia Mino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44200" indent="-4935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(Ionia in eastern Mediterranean)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ally “composed”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Ilia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and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Odyssey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al tradition: travelled and recited epic poetry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44200" indent="-4935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entral hero of epic poem (e.g. Odysseus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rger-than-life figure from history or legend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portance: national, international, cosmic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aits of hero are those valued by his society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) Archetype: character, image, or situation that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ppears in lit of all cultures and all tim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) Bard: wandering poet who recites poem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) Epic simile: Homeric simile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794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ng &amp; elaborate comparison of unlike subject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8794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using words </a:t>
            </a: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like, as, just as, so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5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0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4) Flashback: scene that interrupts a narrative to relate earlier ev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5) Guile: (filled with) crafty, cunning, clever, wil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6) Hubris: arrogance caused by excessive prid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7) Meter: rhythmical pattern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mber &amp; types of stresses (beats) in each l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iginal: written in dactylic hexameter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ines of six feet (beats), 3 syllables ea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ith stress on first syllabl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8) Muses: spirits that inspire poets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9 omniscient goddesses of art, literature, &amp; scie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9) Myths: Fictional tales that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) describe actions of gods &amp; hero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) explain causes of natural phenomen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yths emphasize supernatural ev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ather than historical event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0) Narrative poem: a poem that tells a story, e.g. an epic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1) Oral tradition: passing songs, stories, &amp; poems from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e generation to another by word of mou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2) Stock epithets: adjective-noun phrases that describ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eople, forces, and objec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.g. Odysseus the wander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lypso, loveliest among godde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Zeus the lord of cloud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wn with fingertips of ro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4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ng narrative poe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bout the deeds and adventur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f  national or legendary hero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)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vocation to a Muse (goddes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794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ing in me, Muse, and through me tell the story…”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8794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8794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f these adventures, Muse, daughter of Zeus,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8794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ell us in our time, lift the great song again.”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)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pic &amp; theme stated in first lin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…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tor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f that man skilled in all ways of contending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wanderer, harried for years on end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fter he plundered the stronghol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 the proud height of Troy.”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6" dur="2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) Beginning: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in medias re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in the middle of thing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 flashbacks are us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) Language: formal, elevated, poetic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ften recited to music (lyre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ock epithets and epic simi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ng speeches by main charact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) Lines: formulai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er based on long &amp; short syllab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) An epic hero on an epic journey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) Intervention of supernatural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gods and goddesses 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ime: 1200 B.C.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lace: modern-day Turke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rmies: Greek (Achilles) and Trojan (Hector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gendary cause: Helen of Troy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urpose: control of trade in Aegean Se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ngth: 10 yea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4 books lo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 main plot strands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) Ithaca without Odysseu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) Odysseus’ travels after the w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) Odysseus returning ho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yalty, devotion, fortitud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reek ideal of strong body and strong intellec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andering hero returning ho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iumph of good over evil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bedience to laws of god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1" dur="2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32:59Z</dcterms:created>
  <dc:creator>Jeanne</dc:creator>
  <dc:description/>
  <dc:language>en-US</dc:language>
  <cp:lastModifiedBy>Jeanne</cp:lastModifiedBy>
  <dcterms:modified xsi:type="dcterms:W3CDTF">2012-01-08T23:08:12Z</dcterms:modified>
  <cp:revision>6</cp:revision>
  <dc:subject/>
  <dc:title>Epic: The Odyssey</dc:title>
</cp:coreProperties>
</file>